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0EE-18B3-4206-806D-82DAAF57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8C6-CDFC-468C-9459-867B869C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058-A3A9-48F4-9F40-9E0CE8F4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357-CCA2-4F31-812B-A069527E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3D7-DE4A-43E5-84B7-AEFF2E04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A52-5E43-4660-B74C-CD6AB05B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A77-F937-4227-A28F-E0AFC511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A1D-2649-4FAB-9234-C21DA7F4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38E-BD95-4C2C-B789-6868E1AF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4A8-03B2-4199-8D1F-3DE7AAA7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99C-8882-41B2-889B-72C22CA1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CFE-7C7D-4823-B005-FAB3291B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2E62-1864-4435-BC96-562DD1026AB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askschools.ca/~msd/2003/wittke/uranium.html" TargetMode="External"/><Relationship Id="rId2" Type="http://schemas.openxmlformats.org/officeDocument/2006/relationships/hyperlink" Target="http://www.saskschools.ca/~msd/2003/wittke/tunnels.html" TargetMode="External"/><Relationship Id="rId3" Type="http://schemas.openxmlformats.org/officeDocument/2006/relationships/hyperlink" Target="http://www.saskschools.ca/~msd/2003/wittke/fortcarlton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e Province of Saskatche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t0.gstatic.com/images?q=tbn:ANd9GcRRt7FoyksDrTLIhGmDsiFQTsrrVbRlrQPXnIZIv9UUjkey7-pc7Q&amp;t=1"/>
          <p:cNvPicPr/>
          <p:nvPr/>
        </p:nvPicPr>
        <p:blipFill>
          <a:blip r:embed="rId1"/>
          <a:stretch/>
        </p:blipFill>
        <p:spPr>
          <a:xfrm>
            <a:off x="1042920" y="1628640"/>
            <a:ext cx="6913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main industries in Saskatchewan are forestry and m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3600360" cy="232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images.lightstalkers.org/images/756986/potash_080907_025_large.jpg"/>
          <p:cNvPicPr/>
          <p:nvPr/>
        </p:nvPicPr>
        <p:blipFill>
          <a:blip r:embed="rId2"/>
          <a:stretch/>
        </p:blipFill>
        <p:spPr>
          <a:xfrm>
            <a:off x="4716360" y="2847960"/>
            <a:ext cx="43070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ngs that are mined include copper, nickel, lead, zinc, gold, iron, uranium and diam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oceansidenetwork.com/blog/wp-content/uploads/2010/10/gold.jpg"/>
          <p:cNvPicPr/>
          <p:nvPr/>
        </p:nvPicPr>
        <p:blipFill>
          <a:blip r:embed="rId2"/>
          <a:stretch/>
        </p:blipFill>
        <p:spPr>
          <a:xfrm>
            <a:off x="4716360" y="3171960"/>
            <a:ext cx="3333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story of Saskatche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askatchewan was first explored by Europeans in 1690 and settled in 1774; prior to that, it was populated by several indigenous trib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 more settlers came to the prairies on the railway, the population grew, and Saskatchewan became a province on September 1, 19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story of Saskatche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province's name is derived from the Saskatchewan River. Earlier, the river was designated </a:t>
            </a:r>
            <a:r>
              <a:rPr b="0" i="1" lang="en-CA" sz="3200" spc="-1" strike="noStrike">
                <a:solidFill>
                  <a:srgbClr val="000000"/>
                </a:solidFill>
                <a:latin typeface="Calibri"/>
              </a:rPr>
              <a:t>kisiskāciwani-sīpiy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("swift flowing river") in the Cree langu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askatchewan joined confederation on September 1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19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story of Saskatche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official bird of Saskatchewan is the Sharp Tailed Gr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62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story of Saskatche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official flower of Saskatchewan is the Western Red Li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4537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laces to see in Saskatche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askschools.ca/~msd/2003/wittke/uranium.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askschools.ca/~msd/2003/wittke/tunnels.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askschools.ca/~msd/2003/wittke/fortcarlton.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province of Saskatchewan has a population of 1 052 937 as of March 21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201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apital city of Saskatchewan is Regina.  There are approximately 202 256 people living in Regina as of March 21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20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outhern part of Saskatchewan is part of the Interior Plains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air on the prairies is dry and the skies are usually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winter is long, windy and cold but has lots of suns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plains are made up of flat grasslands and gently rolling h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1927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area of the Interior plains is famous for                                               grain farming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d cattle ran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219640" y="4538520"/>
            <a:ext cx="3333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area is known for its production of oil and 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95280" y="3673440"/>
            <a:ext cx="3719520" cy="231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38149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rest of Saskatchewan falls into the Canadian Shiel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anadian Shield covers over half of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land is made of very old rock which has almost no soi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skatchewan- Landform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akes and forests are num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ew people live in this area because the climate is so harsh and there is little soil which makes agriculture almost im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2808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2:17:55Z</dcterms:created>
  <dc:creator>Jason</dc:creator>
  <dc:description/>
  <dc:language>en-US</dc:language>
  <cp:lastModifiedBy>Jason</cp:lastModifiedBy>
  <dcterms:modified xsi:type="dcterms:W3CDTF">2011-03-22T17:00:52Z</dcterms:modified>
  <cp:revision>6</cp:revision>
  <dc:subject/>
  <dc:title>The Province of Saskatchewan</dc:title>
</cp:coreProperties>
</file>